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0ED-8184-4B4A-A58A-1AA4C62A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323-AFEE-469E-8F75-E85E960F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111-A345-45E4-8046-D356A79D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980-0CF0-4982-A657-A9BC6E46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067F-15CC-4ADA-97CA-FBF50745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CF70-855F-4850-9D95-1B533512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9495-005C-4568-87F2-77E9580F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6447-86B2-446B-A966-35C1D0EE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0090-3BEA-4137-94DC-4B87953C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D045-AA04-49FA-A7CA-65E68BBC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D987-8425-4E4B-B2C5-F06CA06C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890-4D2E-48E4-B02C-49F0C134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2284-BD1C-4ABA-AA3A-19646386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CFA7-599C-4E78-A766-4443BEC0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933F-59D2-4DC3-906D-D05972B0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81AE-FCE9-484C-BA55-22B2AFE1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72C2-E10C-4B29-8895-0FFBFDD9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ECA-12F3-414D-B7D4-098ED33C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6AA-DC11-48EB-AFE0-3D401E89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B36-FB18-4D63-BCFC-F28DD06E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2DE-B373-41C6-A8EE-1906E5DE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5F0-A673-456F-ADDB-D827633B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EF4-0E8C-4F4A-A3A4-10BF3064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4CA8-085B-49D6-885A-080AA948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cap="sq"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cap="sq"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cap="sq"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B6DA-A27D-4AFB-B7E9-EA818797A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cap="sq"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cap="sq"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cap="sq"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0CC4-B30F-43D3-A12C-254D15201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ir, We Would See Jesu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9, Lesson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2:1 – 3: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23 - 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A61D-5E6E-4741-9DF1-67818F51742E}" type="slidenum">
              <a:t>1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Beginning of Jesus’ Ministr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p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Disci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irst Mira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33F-83AD-4259-9710-0DD92AAB8D05}" type="slidenum">
              <a:t>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First Miracle in Cana of Galile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2:1-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ccasion:  A Wedding Fe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eed: The Supply of Wine Had Run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quest: Mary asked Jesus to do something abou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ult:  A Surprising Better 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bject of this Miracle: Show His Power over Nature (sign of de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ult:  His disciples “believed” on H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CD22-4EA1-40C8-8709-F5E31B131590}" type="slidenum">
              <a:t>3</a:t>
            </a:fld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ana of Galile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5097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33720" y="2666880"/>
            <a:ext cx="838080" cy="5335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96C-8FFE-4062-A674-7E6C17AB1FE8}" type="slidenum">
              <a:t>4</a:t>
            </a:fld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esus Visits Capernaum for a few days – John 2:12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5046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0080" y="2133720"/>
            <a:ext cx="685800" cy="304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3924360" cy="26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CDE-50C9-450F-977A-6DA5A2D488D9}" type="slidenum">
              <a:t>5</a:t>
            </a:fld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apernaum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53452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FE6-1584-4DB3-890D-B943C8E24DC3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First Passover in His Ministry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John 2:13-22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65708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san = Our March 15 - April 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ing the temple made into a house of merchand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verting the design and purpose of the te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us strongly opposed what the Jews were d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authority would be proven in His resurr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misconstrued His words to mean something He did not int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ver, Jesus’ words and miracles convinced many –John 2:23-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E6AC-2FE9-4084-A1E3-7D11C362DA78}" type="slidenum">
              <a:t>7</a:t>
            </a:fld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Jerusalem Templ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153120" cy="4614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2122560" cy="2666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737400" y="380880"/>
            <a:ext cx="2197080" cy="310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C07-43D2-422D-A888-EDEBA9DAD8B3}" type="slidenum">
              <a:t>8</a:t>
            </a:fld>
          </a:p>
        </p:txBody>
      </p:sp>
    </p:spTree>
  </p:cSld>
  <p:transition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Nicodemus Visits Jesu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3:1-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ew Birth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ing and entering the kingdom of God requir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A new start in learning the things of G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The washing of regeneration and renewing of the Holy Spir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Looking up to Jesus for spiritual healing as the Israelites looked upon the brass serpent on the p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E72-B986-40A1-87EB-A8ED5E47163F}" type="slidenum">
              <a:t>9</a:t>
            </a:fld>
          </a:p>
        </p:txBody>
      </p:sp>
    </p:spTree>
  </p:cSld>
  <p:transition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8:12:10Z</dcterms:created>
  <dc:creator> Tab Vines</dc:creator>
  <dc:description/>
  <dc:language>en-US</dc:language>
  <cp:lastModifiedBy>Frank D Vines</cp:lastModifiedBy>
  <dcterms:modified xsi:type="dcterms:W3CDTF">2006-07-26T23:25:57Z</dcterms:modified>
  <cp:revision>6</cp:revision>
  <dc:subject/>
  <dc:title>Sir, We Would See Jesus</dc:title>
</cp:coreProperties>
</file>